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0.png" ContentType="image/png"/>
  <Override PartName="/ppt/media/image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61AE-8681-460A-B2EA-016BE445B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2B0A-CDDE-41D3-B95A-B05256342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D7D2-289A-445A-BFA8-5CE4DF10A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 establishes the need for student to be proficient in reading complex informational text independently in a variety of content areas. Most college and workforce training programs is informational in structure and challenging in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EP requires high and increasing proportion of informational text on its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507E-06E7-4DF8-872C-F65DD0166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DB51-3FD1-40E5-9E66-644383DA9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A825-A5BD-4E04-A9DA-64DEA03A3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demand a greater focus o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al text literary non fi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focus in 6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0955-ED2E-42A3-A57A-F0F7F3240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s of an effective comprehensive read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proficient readers  with the capacity to comprehend text across a range of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x A pg 17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5647-19E2-4E78-9A04-B10193089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AF2C-02CB-4F22-8AE0-709EA0AD1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5CC1-905A-4B35-ABCD-8A1ADACB0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6CFC-FB2B-46AD-AE6E-9AA908B67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Analyze givens, constraints, relationships and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A4CA-3DDE-4D85-A984-89C466AA1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732D-3D43-437B-8924-F69FDB765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D2F2-1BF1-4724-BA31-706CDED3D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D0E8-641F-449B-B2CE-431058595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D11F-8DB5-426C-B96C-8F3C88BD0B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CA4E-026B-4038-8C8D-FCB90BFBA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9A56-1A58-4E30-B3A7-84B5D5640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8BF2-DCBB-47D9-9CA1-0E7B2EACC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C0CD-3A35-4CDA-9AEF-86223A7C7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5749-0E9D-4D82-AA15-EBDC2A19E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A064-8BDC-4B81-8B82-C27EA3A40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2B53-4DDB-45F4-92ED-FF8131BBA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3943-4339-4F44-BDC2-6FD27F0B6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achievement leaves room for teachers, curriculum developers and states to determine how those goals should be reached and what additional topics should be ta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are free to provide students with what ever tools their professional judgment and experience identify as most help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20E4-89F4-474F-ACD2-5BB8E48ED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46FA-73DD-4C4A-88F3-DC8101B0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2853-B8AB-49FE-AD67-989A6079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B8D7-77B6-4A77-B3F3-B3A0AFE6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12C0-5564-4DC8-B187-919331B3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E10-3B6F-4CD0-B631-C619E561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9F1-F548-45BE-B7EE-FA8C0823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3D40-E35A-47F5-A422-EF9352ED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5B1-ABC6-4DAF-A971-E167BDD4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B45E-90A9-4500-89E5-35A1CEC5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9976-11F8-4F2C-8C94-C5E8B690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3254-C399-4250-A1D3-22A37CD1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D2C-F97E-41A3-A650-1A205639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FFE1-F62D-48D9-9E5C-D5FBA070C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7620120" cy="19810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ications of the Common Core State Standards                                    and Next Generation Assess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e Gendron,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cy Coordinator, SMARTER Balanced Assessment Consortium                     and Senior Fellow, 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040" y="3200400"/>
            <a:ext cx="4800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ar this webinar you will need to choose your audio mo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the control panel in the upper right corner of your screen and click the button of how you will be listening. Your cho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266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eleph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266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mic &amp; spea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If using mic &amp; speak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ake sure your volume is turned up so you can h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If using the telephone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l: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16-233-308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Cod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387-502-78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PIN: unique PIN shown in audio control panel on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Technical difficulties? Contact (518) 399-2776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7632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410080" y="12060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LeaderEd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04920" y="632448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All participants are on mu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5" descr="Susan Gendron Photo"/>
          <p:cNvPicPr/>
          <p:nvPr/>
        </p:nvPicPr>
        <p:blipFill>
          <a:blip r:embed="rId2"/>
          <a:srcRect l="0" t="6072" r="0" b="11953"/>
          <a:stretch/>
        </p:blipFill>
        <p:spPr>
          <a:xfrm>
            <a:off x="7335720" y="685800"/>
            <a:ext cx="1808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and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ge and Career Readiness (CC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chor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 expectations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 acro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s and con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colleg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forc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and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k-5 reading standards"/>
          <p:cNvPicPr/>
          <p:nvPr/>
        </p:nvPicPr>
        <p:blipFill>
          <a:blip r:embed="rId1"/>
          <a:stretch/>
        </p:blipFill>
        <p:spPr>
          <a:xfrm>
            <a:off x="5276880" y="1523880"/>
            <a:ext cx="3608280" cy="437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Logo-with-Band-Stretch-smal"/>
          <p:cNvPicPr/>
          <p:nvPr/>
        </p:nvPicPr>
        <p:blipFill>
          <a:blip r:embed="rId2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52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rehension (standards 1−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s for reading literature and informational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ong and growing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cross-the-curriculu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mphasi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ility to read and comprehend informational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ed with NAEP Reading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ange of reading and level of text complexit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standard 10, Appendices A and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ircas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growing text complexity across g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-quality literature and informational texts in a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genres and subgen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llege and Career Readiness Standards for Reading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Ideas and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Rea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ly to determine what the text says explicitly and to make logical inferences from it; cite specific textual evidence when writing or speaking to support conclusions drawn from the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ral ideas or themes of a text and analyze their development; summarize the key supporting details and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w and why individuals, events, and ideas develop and interact over the course of a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llege and Career Readiness Standards for Reading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aft an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erpr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s and phrases as they are used in a text, including determining technical, connotative, and figurative meanings, and analyze how specific word choices shape meaning or t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tructure of texts, including how specific sentences, paragraphs, and larger portions of the text (e.g., a section, chapter, scene, or stanza) relate to each other and the wh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w point of view or purpose shapes the content and style of a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llege and Career Readiness Standards for Reading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gration of Knowledge and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grate and evalua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ent presented in diverse media and formats, including visually and quantitatively, as well as in wor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8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lineate and evalua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rgument and specific claims in a text, including the validity of the reasoning as well as the relevance and sufficiency of the evid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.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alyz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ow two or more texts address similar themes or topics in order to build knowledge or to compare the approaches the authors tak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ge and Career Readiness Standards for Rea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 of Reading and Level of Text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.Read and comprehe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 literary and informational tex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ly and profici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g Framework for NAEP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62120" y="2217600"/>
          <a:ext cx="7543800" cy="297684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er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orma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00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Complexit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complexity of text in college, careers and everyda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textbooks have maintained levels or in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scientific journal and magazine have increased between 1930 –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place reading exceeds grade 12 complexity significa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-12 texts have trended down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measured by Lex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g Standards: Foundati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1447560"/>
            <a:ext cx="862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categories (standards 1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concepts ( K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ological awareness (K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ics and word recognition (K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ency (K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n end in and of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what they need, not what they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ing Stand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ege and Career standards per grade level clustered under 4 areas that are consist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t Types and Purpo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ument ( to make people believe something is true or change their beliefs or behavi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de K-5: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inio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evidence/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de 6:  Claims/Evidence/Reasoning/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de 7-12: Claim/Evidence/Reasoning/Ref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al / Explanatory (starts with the assumption of truthfulness and answer questions about why or how, aim is to make the reader understand rather then persua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rrative (conveys experie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c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al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ion and Distribution of Wr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to Build and Present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ge of Wr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Webinar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6370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participants are on mute during the entire webinar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entation portion will be 45 min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s and Answers portion will be 15 minu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ask a question type it in the question control panel in the upper right corner of your screen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nt questions will be answered in the order they were received at the end of the webinar present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will send you a follow up email with the PowerPoint presentation and helpful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ing Stand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1447560"/>
            <a:ext cx="8553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 Types and Purpo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 arguments to support claims in an analysis of substantive topics or texts, using valid reasoning and relevant and sufficient evid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 informative/explanatory texts to examine and convey complex ideas and information clearly and accurately through the effective selection, organization, and analysis of cont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 narratives to develop real or imagined experiences or events using effective techniques, well-chosen details, and well-structured event seque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ing Stand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240" y="1447560"/>
            <a:ext cx="870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ction and Distribution of Wri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clear and coherent writing in which the development, organization, and style are appropriate to task, purpose, and audi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and strengthen writing as needed by planning, revising, editing, rewriting, or trying a new approa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echnology, including the Internet, to produce and publish writing and to interact and collaborate with o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ing Stand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5235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earch to Build and Present Knowl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uct short, as well as more sustained research projects based on questions, demonstrating understanding of the subject under investig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her relevant information from multiple print and digital sources, assess the credibility and accuracy of each source, and integrate the information while avoiding plagiar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w evidence from literary or informational texts to support analysis, reflection, and re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ing Stand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560" y="1447560"/>
            <a:ext cx="862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ange of Wri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 routinely over extended time frames (time for research, reflection, and revision) and shorter time frames (a single sitting or a day or two) for a range of tasks, purposes, and audie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EP 2011 Writing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80880" y="1930320"/>
          <a:ext cx="8382240" cy="2927520"/>
        </p:xfrm>
        <a:graphic>
          <a:graphicData uri="http://schemas.openxmlformats.org/drawingml/2006/table">
            <a:tbl>
              <a:tblPr/>
              <a:tblGrid>
                <a:gridCol w="2095560"/>
                <a:gridCol w="2130480"/>
                <a:gridCol w="2060640"/>
                <a:gridCol w="2095560"/>
              </a:tblGrid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Persu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Expl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Convey Exper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ing Standards/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447560"/>
            <a:ext cx="862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Participate in shared research and writing projects (e.g., explore a number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-t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oks on a given topic and use them to write a sequence of instruc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Conduct short research projects that build knowledge about a to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ing Standards/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28240" y="1447560"/>
            <a:ext cx="870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de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 Conduct short research projects that use several sources to build knowledge through investigation of different aspects of a top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de 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 Conduct short research projects to answer a question, drawing on several sources and generating additional related, focused questions for further research and investig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. Gather relevant information from multiple print and digital sources, using search terms effectively; assess the credibility and accuracy of each source; and quote or paraphrase the data and conclusions of others while avoiding plagiarism and following a standard format for ci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0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ing Standards/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240" y="1447920"/>
            <a:ext cx="8697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 9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 short as well as more sustained research projects to answer a question (including a self-generated question) or solve a problem; narrow or broaden the inquiry when appropriate; synthesize multiple sources on the subject, demonstrating understanding of the subject under investig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Gather relevant information from multiple authoritative print and digital sources, using advanced searches effectively; assess the usefulness of each source in answering the research question; integrate information into the text selectively to maintain the flow of ideas, avoiding plagiarism and following a standard format for ci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Draw evidence from literary or informational texts to support analysis, reflection, and research. Appl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des 9–10 Reading standards to literature (e.g.,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alyze how an author draws on and transforms source material in a specific work [e.g., how Shakespeare treats a theme or topic from Ovid or the Bible or how a later author draws on a play by Shakespeare]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. Apply grades 9–10 Reading standards to literary nonfiction (e.g.,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lineate and evaluate the argument and specific claims in a text, assessing whether the reasoning is valid and the evidence is relevant and sufficient; identify false statements and fallacious reasoning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0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aking and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240" y="1447560"/>
            <a:ext cx="870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rehension and Collabo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Range of conversations and collaborations,  diverse partners, building on other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deas and expressing their own clearly and persuasive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Integrate and evaluate information presented in diverse media and formats, including visually, quantitatively, and oral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Evaluate a speaker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point of view, reasoning, and use of evidence and rhetor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0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aking and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447560"/>
            <a:ext cx="870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 of Knowledge and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resent information, findings, and supporting evidence such that listeners can follow the line of reasoning and the organization, development, and style are appropriate to task, purpose, and audi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Make strategic use of digital media and visual displays of data to express information and enhance understanding of presen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Adapt speech to a variety of contexts and communicative tasks, demonstrating command of formal English when indicated or appropri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s Development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-based effort to fulfill the charge issued by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next generation of K-12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tudents college and career ready in literacy and math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later than end of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upon the foundation laid by th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vision of what it means to be a literate student in the twenty-first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7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ntions of Standard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writing or spe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 capitalization, punctuation, and spelling when wri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 of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mprehend more fully when reading or list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bulary Acquisition and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Determine or clarify the meaning of unknown and multiple-meaning words and phrases by using context clues, analyzing meaningful word par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Demonstrate understanding of figurative language, word relationships, and nuances in word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Acquire and use accurately a range of general academic and domain-specific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 Standards for Literacy in History/Social Studies, Science and Technical Subjects 6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ading critical to building knowled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ppreciation for the norms and conven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derstanding of domain specific wor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alyze, evaluate intricate argument, synthesi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plement the discipli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31237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RD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1981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Logo-with-Band-Stretch-smal"/>
          <p:cNvPicPr/>
          <p:nvPr/>
        </p:nvPicPr>
        <p:blipFill>
          <a:blip r:embed="rId2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h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culated progressions of topics and performances that are developmental and connected to other prog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ual understanding and procedural skills stressed eq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TM stat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h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so means that instruction, assessment, and curriculum are alig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12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ideas, understandings, and skills are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learning of concepts is st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adequate time is devoted to a topic and learning it well.  This counters th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e wide, inch dee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riticism leveled at most current U.S. stand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rity and Specif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s and concepts are clearly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bility to apply concepts and skills to new situations is exp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CSS Mathematical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mon Core proposes a set of Mathematical Practices that all teachers should develop in their students.  These practices are similar to the mathematical processes that NCTM addresses in the Process Standard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nciples and Standards for School Mathema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560" y="1447560"/>
            <a:ext cx="862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688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ke sense of problems and persevere in solving th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9688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ason abstractly and quantitative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9688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truct viable arguments and critique the reasoning of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9688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del with mathemat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9688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appropriate tools strategical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9688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ttend to preci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9688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ok for and make use of struct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9688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ok for and express regularity in repeated reason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0880" y="1447560"/>
            <a:ext cx="8553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 for Mathematical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across all grade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abits of a mathematically expert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 for Mathematical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-8 presented by grad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ed into domains that progress over several 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introductions give 2-4 focal points at each grad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school standards presented by conceptual theme (Number &amp; Quantity, Algebra, Functions, Modeling, Geometry, Statistics &amp;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de 1 Focus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560" y="1447560"/>
            <a:ext cx="862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understanding of addition, subtraction, and strategies for addition and subtraction within 2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688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understanding of whole number relationships and place value, including grouping in tens and o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688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understanding of linear measurement and measuring lengths as iterating length units;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688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ing about attributes of, and composing and decomposing geometric sha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Cor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 48 states and three territories sign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Standards released June 2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of today, 35 states have officially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 another 10 by Janu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1028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Logo-with-Band-Stretch-smal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ade Level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7315200" cy="4370400"/>
          </a:xfrm>
          <a:prstGeom prst="rect">
            <a:avLst/>
          </a:prstGeom>
          <a:ln w="0">
            <a:noFill/>
          </a:ln>
        </p:spPr>
      </p:pic>
      <p:grpSp>
        <p:nvGrpSpPr>
          <p:cNvPr id="172" name="Rounded Rectangular Callout 5"/>
          <p:cNvGrpSpPr/>
          <p:nvPr/>
        </p:nvGrpSpPr>
        <p:grpSpPr>
          <a:xfrm>
            <a:off x="5688000" y="4754520"/>
            <a:ext cx="2608200" cy="1219320"/>
            <a:chOff x="5688000" y="4754520"/>
            <a:chExt cx="2608200" cy="1219320"/>
          </a:xfrm>
        </p:grpSpPr>
        <p:pic>
          <p:nvPicPr>
            <p:cNvPr id="173" name="Rounded Rectangular Callout 5" descr=""/>
            <p:cNvPicPr/>
            <p:nvPr/>
          </p:nvPicPr>
          <p:blipFill>
            <a:blip r:embed="rId2"/>
            <a:stretch/>
          </p:blipFill>
          <p:spPr>
            <a:xfrm>
              <a:off x="5688000" y="4754520"/>
              <a:ext cx="26082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899320" y="5288040"/>
              <a:ext cx="23112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Segoe"/>
                </a:rPr>
                <a:t>Critical Are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Left Arrow 6"/>
          <p:cNvSpPr/>
          <p:nvPr/>
        </p:nvSpPr>
        <p:spPr>
          <a:xfrm>
            <a:off x="7238880" y="1752480"/>
            <a:ext cx="1905120" cy="1600200"/>
          </a:xfrm>
          <a:prstGeom prst="leftArrow">
            <a:avLst>
              <a:gd name="adj1" fmla="val 50000"/>
              <a:gd name="adj2" fmla="val 50003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ross- Cutting T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Logo-with-Band-Stretch-smal"/>
          <p:cNvPicPr/>
          <p:nvPr/>
        </p:nvPicPr>
        <p:blipFill>
          <a:blip r:embed="rId3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6594480" cy="4527720"/>
          </a:xfrm>
          <a:prstGeom prst="rect">
            <a:avLst/>
          </a:prstGeom>
          <a:ln w="0">
            <a:noFill/>
          </a:ln>
        </p:spPr>
      </p:pic>
      <p:grpSp>
        <p:nvGrpSpPr>
          <p:cNvPr id="178" name="Rounded Rectangular Callout 8"/>
          <p:cNvGrpSpPr/>
          <p:nvPr/>
        </p:nvGrpSpPr>
        <p:grpSpPr>
          <a:xfrm>
            <a:off x="6523200" y="652320"/>
            <a:ext cx="2296800" cy="1043280"/>
            <a:chOff x="6523200" y="652320"/>
            <a:chExt cx="2296800" cy="1043280"/>
          </a:xfrm>
        </p:grpSpPr>
        <p:pic>
          <p:nvPicPr>
            <p:cNvPr id="179" name="Rounded Rectangular Callout 8" descr=""/>
            <p:cNvPicPr/>
            <p:nvPr/>
          </p:nvPicPr>
          <p:blipFill>
            <a:blip r:embed="rId2"/>
            <a:stretch/>
          </p:blipFill>
          <p:spPr>
            <a:xfrm>
              <a:off x="6523200" y="652320"/>
              <a:ext cx="229680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6891480" y="719280"/>
              <a:ext cx="183816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Segoe"/>
                </a:rPr>
                <a:t>Grade Leve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Rounded Rectangular Callout 9"/>
          <p:cNvGrpSpPr/>
          <p:nvPr/>
        </p:nvGrpSpPr>
        <p:grpSpPr>
          <a:xfrm>
            <a:off x="3303720" y="1542960"/>
            <a:ext cx="5516280" cy="1724040"/>
            <a:chOff x="3303720" y="1542960"/>
            <a:chExt cx="5516280" cy="1724040"/>
          </a:xfrm>
        </p:grpSpPr>
        <p:pic>
          <p:nvPicPr>
            <p:cNvPr id="182" name="Rounded Rectangular Callout 9" descr=""/>
            <p:cNvPicPr/>
            <p:nvPr/>
          </p:nvPicPr>
          <p:blipFill>
            <a:blip r:embed="rId3"/>
            <a:stretch/>
          </p:blipFill>
          <p:spPr>
            <a:xfrm>
              <a:off x="3303720" y="1542960"/>
              <a:ext cx="551628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891480" y="2548080"/>
              <a:ext cx="1838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Segoe"/>
                </a:rPr>
                <a:t>Domai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4" descr="Logo-with-Band-Stretch-smal"/>
          <p:cNvPicPr/>
          <p:nvPr/>
        </p:nvPicPr>
        <p:blipFill>
          <a:blip r:embed="rId4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ctions, Grades 3–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Develop an understanding of fractions as numb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Extend understanding of fraction equivalence and orde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Build fractions from unit fractions by applying and extending previous understandings of operations on whole numb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Understand decimal notation for fractions, and compare decimal fr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Use equivalent fractions as a strategy to add and subtract fr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Apply and extend previous understandings of multiplication and division to multiply and divide fr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. Apply and extend previous understandings of multiplication and division to divide fractions by fr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stics and Probability, Grad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560" y="160020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understanding of statistical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ognize a statistical question as one that anticipates variability in the data related to the question and accounts for it in the answer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example,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old am I?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not a statistical question, but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old are the students in my school?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a statistical question because one anticipates variability in students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derstand that a set of data collected to answer a statistical question has a distribution which can be described by its center, spread, and overa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ognize that a measure of center for a numerical data set summarizes all of its values with a single number, while a measure of variation describes how its values vary with a single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ebra, Grade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ded ramp up to Algebra in Grade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of operations, similarity, ratio and proportional relationships, rational number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cus on linear equations and functions in Grade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s and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radicals and integer ex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the connections between proportional relationships, lines, and linear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and solve linear equations and pairs of simultaneous linear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, evaluate, and compare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functions to model relationships between quant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088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eptual themes in hig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and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ge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stics and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ge and career readiness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+) standards indicate material beyond the threshold; can be in courses required for all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1440" y="228240"/>
            <a:ext cx="878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S Pat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8240" y="1447560"/>
            <a:ext cx="870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dit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S) – 2 Algebra, Geometry and Data, probability and statistics included in each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tegrated) three courses including number , algebra, geometry, probability and statistics each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cted version of tradit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grade 7/8 and algebra completed by end of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cted integrated model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ing students to reach Calculus or other college level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School -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ing mathematics and statistics to everyday life, wor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of choosing and using appropriate mathematics and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1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Adv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and coh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key topics at each grade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erent progressions across grade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 of concepts and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standards require both conceptual understanding and procedural flu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 reasoning and sense-making in mathema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ge and career read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is ambitious but achiev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re the Common Core State Standar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Aligne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with college and work expect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Focused and coh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luded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rigorou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content and application of knowledge through high-order ski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ild upon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strengths and lesson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f current state standar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Internationally benchmarke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 that all students are prepared to succeed in our global economy and socie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Research and evidenc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a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State le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coordinated by NGA Center and CCSS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versal Design fo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90400" y="1447560"/>
            <a:ext cx="8172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design for learning (UDL) is a set of principles for designing curriculum that provides all individuals with equal opportunities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Generation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4 New assessments / PARCC and SMARTER Consorti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opportunities fo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/Benchmark, Formative and Sum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 Planning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Questions and Answers with S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124080" y="2438280"/>
            <a:ext cx="56390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end of the presentation por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t questions at this time and stay on to hear the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logging off,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hank yo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ttending and we will email you with follow-up 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609480" y="579132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more information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www.LeaderEd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Susan Gendron Photo"/>
          <p:cNvPicPr/>
          <p:nvPr/>
        </p:nvPicPr>
        <p:blipFill>
          <a:blip r:embed="rId2"/>
          <a:srcRect l="0" t="6072" r="0" b="11953"/>
          <a:stretch/>
        </p:blipFill>
        <p:spPr>
          <a:xfrm>
            <a:off x="152280" y="2057400"/>
            <a:ext cx="2743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2956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ing 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n Core State Standards and  Next Generation 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Logo-with-Band-Stretch-smal"/>
          <p:cNvPicPr/>
          <p:nvPr/>
        </p:nvPicPr>
        <p:blipFill>
          <a:blip r:embed="rId1"/>
          <a:stretch/>
        </p:blipFill>
        <p:spPr>
          <a:xfrm>
            <a:off x="0" y="7632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1600200" y="380988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8"/>
          <p:cNvSpPr/>
          <p:nvPr/>
        </p:nvSpPr>
        <p:spPr>
          <a:xfrm>
            <a:off x="3505320" y="2057400"/>
            <a:ext cx="541008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e Gendron, Senior Fellow, I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27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ehensive Planning and Implementation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27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fessional Development, Workshops, and Advi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27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 Building Awareness and Commitment                -  Building Leadership Capacity                      -  Strategic Review and Planning                    -  Curriculum Alig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2" descr="DSC04567"/>
          <p:cNvPicPr/>
          <p:nvPr/>
        </p:nvPicPr>
        <p:blipFill>
          <a:blip r:embed="rId2"/>
          <a:srcRect l="0" t="0" r="0" b="19149"/>
          <a:stretch/>
        </p:blipFill>
        <p:spPr>
          <a:xfrm>
            <a:off x="228600" y="1981080"/>
            <a:ext cx="3181320" cy="3429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3"/>
          <p:cNvSpPr/>
          <p:nvPr/>
        </p:nvSpPr>
        <p:spPr>
          <a:xfrm>
            <a:off x="3809880" y="518148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ing Soon! Resource K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4"/>
          <p:cNvSpPr/>
          <p:nvPr/>
        </p:nvSpPr>
        <p:spPr>
          <a:xfrm>
            <a:off x="991440" y="6140520"/>
            <a:ext cx="65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ank you for attending!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ww.LeaderEd.com 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518) 399-2776 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fo@LeaderEd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3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 rot="12682800">
            <a:off x="4210200" y="210600"/>
            <a:ext cx="4916160" cy="731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982" y="783"/>
                  <a:pt x="4363" y="5080"/>
                  <a:pt x="4363" y="10800"/>
                </a:cubicBezTo>
                <a:cubicBezTo>
                  <a:pt x="4363" y="16520"/>
                  <a:pt x="12982" y="2081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"/>
          <p:cNvSpPr/>
          <p:nvPr/>
        </p:nvSpPr>
        <p:spPr>
          <a:xfrm rot="20840400">
            <a:off x="0" y="304920"/>
            <a:ext cx="3429000" cy="678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52" y="880"/>
                  <a:pt x="4903" y="5080"/>
                  <a:pt x="4903" y="10800"/>
                </a:cubicBezTo>
                <a:cubicBezTo>
                  <a:pt x="4903" y="16520"/>
                  <a:pt x="13252" y="2072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4343040"/>
            <a:ext cx="7467840" cy="1143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October 22-24, 2010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Washington, D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rcRect l="2172" t="3200" r="1300" b="4485"/>
          <a:stretch/>
        </p:blipFill>
        <p:spPr>
          <a:xfrm>
            <a:off x="914400" y="1992240"/>
            <a:ext cx="7243920" cy="23511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0" y="380520"/>
            <a:ext cx="922032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Gothic"/>
              </a:rPr>
              <a:t>K-12 School Reinvention Symposium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mplications of the CC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Logo-with-Band-Stretch-smal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5867280" y="6095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LeaderEd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nashville"/>
          <p:cNvPicPr/>
          <p:nvPr/>
        </p:nvPicPr>
        <p:blipFill>
          <a:blip r:embed="rId1"/>
          <a:srcRect l="0" t="28992" r="0" b="32717"/>
          <a:stretch/>
        </p:blipFill>
        <p:spPr>
          <a:xfrm>
            <a:off x="12600" y="684360"/>
            <a:ext cx="9131400" cy="52606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828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ush Script Std"/>
              </a:rPr>
              <a:t>19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rush Script Std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Brush Script Std"/>
              </a:rPr>
              <a:t> Annual</a:t>
            </a:r>
            <a:br>
              <a:rPr sz="20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 Schools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752480" y="609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June 26-29, 2011 -  Nashvil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0" y="5105520"/>
            <a:ext cx="9144000" cy="825480"/>
          </a:xfrm>
          <a:prstGeom prst="rect">
            <a:avLst/>
          </a:prstGeom>
          <a:gradFill rotWithShape="0">
            <a:gsLst>
              <a:gs pos="0">
                <a:srgbClr val="99cc00">
                  <a:alpha val="86274"/>
                </a:srgbClr>
              </a:gs>
              <a:gs pos="100000">
                <a:srgbClr val="5f5f5f"/>
              </a:gs>
            </a:gsLst>
            <a:lin ang="108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casing the natio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most successful practices for improving student achievement and growt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Logo-with-Band-Stretch"/>
          <p:cNvPicPr/>
          <p:nvPr/>
        </p:nvPicPr>
        <p:blipFill>
          <a:blip r:embed="rId2"/>
          <a:srcRect l="0" t="0" r="38806" b="0"/>
          <a:stretch/>
        </p:blipFill>
        <p:spPr>
          <a:xfrm>
            <a:off x="0" y="6219720"/>
            <a:ext cx="2895480" cy="5922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7"/>
          <p:cNvSpPr/>
          <p:nvPr/>
        </p:nvSpPr>
        <p:spPr>
          <a:xfrm>
            <a:off x="3505320" y="64008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www.ModelSchoolsConferenc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efits for States and Distri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collaborative professional development to be based on 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he development of common assessments and other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comparison of policies and achievement across states and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potential for collaborative groups to get more mileage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6368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iculum development, assessment, and 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2666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DARDS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GLISH LANGUAGE 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ITERACY IN HISTORY/SOCIAL STUDIE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IENCE, AND TECHNICAL SU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648320" cy="152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Logo-with-Band-Stretch-smal"/>
          <p:cNvPicPr/>
          <p:nvPr/>
        </p:nvPicPr>
        <p:blipFill>
          <a:blip r:embed="rId2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and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main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-5 (cross-disciplin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-12 English Language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-12 Literacy in History/Social Studies, Science, and Technical Su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responsibilities for studen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teracy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appe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Research and evidence; glossary of key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Reading text exemplars; sample performanc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Annotated student writing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and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results rather than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str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(including Reading Foundational Ski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ing and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grated model of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 skills blended through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2:37:57Z</dcterms:created>
  <dc:creator>Lori</dc:creator>
  <dc:description/>
  <dc:language>en-US</dc:language>
  <cp:lastModifiedBy>Krista Sly</cp:lastModifiedBy>
  <dcterms:modified xsi:type="dcterms:W3CDTF">2011-10-17T18:10:01Z</dcterms:modified>
  <cp:revision>65</cp:revision>
  <dc:subject/>
  <dc:title>Investing in Sustained Improvement  presented by Ray McNulty, Senior Vice President and Todd Daggett, Director of Consulting Services  </dc:title>
</cp:coreProperties>
</file>